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034C-C625-4968-92AF-7A3AB9193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3901-339B-438F-A3F8-3537CA43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5FA-4429-4957-A202-5329DB5EE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D00E-833C-4FA5-9C8B-3F9A1DBE2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7F96-F626-4977-AECA-C68077B44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C155-DE4F-433F-A6BC-24487593B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24E4-5321-46AB-8871-7271DF43B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E9B-EAB6-4B71-8D19-B9CA59B05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AAB3-B0AF-4D84-BF29-033B642F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179A-400C-48C1-8206-5545DB148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0E64-EEE2-4CD7-A92A-BEB577186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E596-EB59-4EA1-8C28-8F6F5E9E4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BF3C-7E91-4B5A-99DD-4E8F02401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5EC7-0CB3-4CC5-A209-F92A1115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68FF-1D17-476C-8608-11B57459A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8304-2D43-4DAE-9186-79385F79F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A38D-D5F9-4227-995C-6F4AA90A3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1208-02D1-4492-B557-9DB65475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9908-29EA-4769-A521-5409343B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D162-2879-41CB-9308-CB02349B9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D6E-10EC-424C-9C40-F05F5EF7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B44-F821-459C-ABFE-7D5B9528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00E-89B4-4C0A-9DB8-3C294564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F26-BDEF-4A09-A099-F8E3E66D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5D4-239D-4D7A-8105-15AFACF4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CB6-E931-4248-BFE2-310AC1D2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F4E-0587-4DA6-B73A-7A85B858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D12-0600-44F2-9F90-5BD5B4B9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58B-83A6-4E91-8DA7-26CC1ED4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3EE-7224-46D5-A877-B696AD14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E19-C602-444F-A72F-90DEBEE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B38-CDD8-4955-9547-108ACC18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4000"/>
            </a:gs>
            <a:gs pos="100000">
              <a:srgbClr val="1cc5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7B36-8E5C-49BA-86EF-4A1C4E208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221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bc.net.au/science/k2/moments/s528517.htm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1cc5e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676520" y="68580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10280" cy="4351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219320" y="6248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. 25.9-25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when the speed of the source is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A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n the speed of waves it produ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ow W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ed of source is greater than wave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wave crests overlap at edges creating a V shap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4648320" y="2238480"/>
            <a:ext cx="3809880" cy="359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w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n be seen by speedbo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speed produces a narrower V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at the boat down below is outrunning the waves it produ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5059440" y="4114800"/>
            <a:ext cx="29858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terns made by an object moving at successive sp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05120" y="640080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219320" y="1371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raw these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949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2057400" y="19810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3962520" y="1981080"/>
            <a:ext cx="22096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6248520" y="1981080"/>
            <a:ext cx="259056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-14 Tom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f-14flyby.mpg" descr="/Users/jward/Documents/Marin Catholic/Con. Physics/Lesson Plans (05-06)/Vibrations &amp; Waves/Movies/f-14flyby.mpg"/>
          <p:cNvPicPr/>
          <p:nvPr/>
        </p:nvPicPr>
        <p:blipFill>
          <a:blip r:embed="rId1"/>
          <a:stretch/>
        </p:blipFill>
        <p:spPr>
          <a:xfrm>
            <a:off x="1676520" y="1752480"/>
            <a:ext cx="5614920" cy="421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Planes actually “break the sound barrier?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’s what happens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 wave crests disrupt flow of air over wings --&gt; harder to control plane when flying close to speed of sound (761m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e barrier is not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of it this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like a boat travels faster than speed of water waves…a plane can travel faster than the speed of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uperson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648320" y="2625840"/>
            <a:ext cx="3809880" cy="282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video.mp4" descr="MCHS HD:Users:jward:Documents:Marin Catholic:Con. Physics:Lesson Plans (05-06):Vibrations &amp; Waves:Movies:video.mp4"/>
          <p:cNvPicPr/>
          <p:nvPr/>
        </p:nvPicPr>
        <p:blipFill>
          <a:blip r:embed="rId1"/>
          <a:stretch/>
        </p:blipFill>
        <p:spPr>
          <a:xfrm>
            <a:off x="1600200" y="14479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1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video(3).mp4" descr="MCHS HD:Users:jward:Documents:Marin Catholic:Con. Physics:Lesson Plans (05-06):Vibrations &amp; Waves:Movies:video(3).mp4"/>
          <p:cNvPicPr/>
          <p:nvPr/>
        </p:nvPicPr>
        <p:blipFill>
          <a:blip r:embed="rId1"/>
          <a:stretch/>
        </p:blipFill>
        <p:spPr>
          <a:xfrm>
            <a:off x="1295280" y="9907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3581280" cy="346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5084640" y="4114800"/>
            <a:ext cx="367848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ck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ock Wav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duced from overlapping spheres that form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“pushes” sound waves in front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 waves must “obey” the speed limit--&gt; pile up agains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“piled up” waves are called shock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724280" cy="35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ck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nic Bo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 “crack” you hear when the compressed air of a supersonic object reaches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 waves hit you all at once (not one at a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at (one wave at at time) vs. jet (all waves at o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llet passing overhead produces a “crack” which is a small sonic 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ger the object --&gt; more air is displaced --&gt; louder the 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onic Boo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10240" cy="258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scrib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scribe bow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scribe sonic  bo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ck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hock Waves spread until they reach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6019920" cy="320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9"/>
          <p:cNvSpPr/>
          <p:nvPr/>
        </p:nvSpPr>
        <p:spPr>
          <a:xfrm>
            <a:off x="5638680" y="60948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715000" y="838080"/>
            <a:ext cx="31240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sts overlap and encounters listener in a single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all listeners hear the boom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ock wave and sonic boom are swept continuously behind 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ets, whips, and to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5496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ationary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886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bobbing at constant frequency on surface of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notice ab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&amp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orms concentric cir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ves encounter point A as frequently as point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2819520" cy="248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2557440" cy="289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begins to move across surface @ less than wave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bserver (A or B) will encounter a higher frequency of wa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ppler Eff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ange in FREQUENCY 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due to the motion of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wave speed, does it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9528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16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43434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8460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aves spread over flat surface, but Sound waves travel in 3-D and expand like ball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notice about the waves in front of train compared to those in back when train is stationary?  In mo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ve crests ahead of moving source are closer together than behind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gher frequency in front, lower frequency in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 car/train h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 with string and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45780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7543800" cy="1814760"/>
          </a:xfrm>
          <a:prstGeom prst="rect">
            <a:avLst/>
          </a:prstGeom>
          <a:ln w="0">
            <a:noFill/>
          </a:ln>
        </p:spPr>
      </p:pic>
      <p:pic>
        <p:nvPicPr>
          <p:cNvPr id="71" name="doppler.mov" descr="/Users/jward/Documents/Marin Catholic/Con. Physics/Lesson Plans (05-06)/Vibrations &amp; Waves/Movies/doppler.mov"/>
          <p:cNvPicPr/>
          <p:nvPr/>
        </p:nvPicPr>
        <p:blipFill>
          <a:blip r:embed="rId2"/>
          <a:stretch/>
        </p:blipFill>
        <p:spPr>
          <a:xfrm>
            <a:off x="2438280" y="1295280"/>
            <a:ext cx="447048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ce radar waves off of moving veh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radar waves from gun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reflected wa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6019920" y="3200400"/>
            <a:ext cx="192708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80880" y="3808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When a source moves towards you, is there an increase or decrease in wave sp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Neither!  It is the frequency of the wave that undergoes a change, NOT the wave sp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3352680" y="762120"/>
            <a:ext cx="2362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Checkpoi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when the speed of the source is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speed of waves it produ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ves pile up and superimpose on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rrier w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urce and waves are equal sp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648320" y="2030400"/>
            <a:ext cx="3809880" cy="401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3:46:46Z</dcterms:created>
  <dc:creator>mchs mchs</dc:creator>
  <dc:description/>
  <dc:language>en-US</dc:language>
  <cp:lastModifiedBy>vci</cp:lastModifiedBy>
  <dcterms:modified xsi:type="dcterms:W3CDTF">2012-02-22T16:05:34Z</dcterms:modified>
  <cp:revision>66</cp:revision>
  <dc:subject/>
  <dc:title>PowerPoint Presentation</dc:title>
</cp:coreProperties>
</file>